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3B9-CAEE-4F07-BFAA-277046E4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27E-8670-4DE7-880E-7DD2AFD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5A547-B030-49CA-B4D0-AD2BB91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BB43D-7D3B-4C08-A66B-647D888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0D096-8F3A-4661-85F6-5C97A86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16DD-1E9C-4403-BEAE-921BB0B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F3E15-CB8A-432C-AFF7-B220D4DA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93A74-2ABE-4B97-AB44-00FCB512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E3194-1B19-4DB2-9E62-B6635BF8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B9CC-28EB-459B-8E50-C1110E29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EECE9-B0F2-45A7-A015-0E892195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7A783-3698-46E2-9269-208164A2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06F-79E5-4953-8977-C91881D1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5C267-F7F0-4AA4-8951-9A122F2A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6A2DD-9C0C-4D72-AE3E-442476DE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5856-5BE7-4359-A278-00EC026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0CD12-386B-41F9-9F29-AAB73BB2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2C72B-7982-403B-B364-8D064C18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0600-542B-4392-9C14-EFC8981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C7F56-6372-40F6-B97B-1E88AD6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44AA2-4CDC-423C-8F8E-7A4946B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8C39D-E7D9-40A5-9180-4D393E76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C509C-6BC2-4499-BE28-C9A86BC0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2A4-52E3-4358-B52A-B32FB008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DC36C-EA21-4B05-8DFA-DF474D2A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F4455-ABB3-4FD1-A38B-ECA2FA05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C6338-F1C1-4EBA-8479-165E65BA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3C5C1-0A6B-4715-94CF-175FD25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5402-A8F0-46AB-A945-6E83625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93294-16D1-4B85-8238-CFEE8282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5D6D5-3543-4622-88EE-2B3FED0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2AC8D-0EDE-4D20-B0EC-D2161C2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2573F-6B42-4574-9ECB-878F0EF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90CA5-1DBA-4E04-A66D-69FC778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FFBF-9FD4-4B30-B67B-24D11A8B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0F6AD-68C5-4399-932C-E35B7A5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993D7-9C02-40D8-B67F-2BEB2EA0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13DE3-A90B-45F0-8B03-D264B787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015DC-0F94-4AA4-821E-FDC3DF13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CD72A-30B3-4FEC-9343-9E6BA98B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0B9B5-C829-4F13-BDFE-CA8AA561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7FCD-182A-4ABD-AB2A-251E846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95132-C703-4491-8945-D932AE6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40D34-C9FE-4A08-A77F-A0C334D7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B60A0-8D4E-43BB-B973-9E7EB87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F6B0-0F3F-47E5-9605-CAC1CFA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705ED-D86B-493B-BF09-6E8DE58E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F1F69-9A8E-4692-B1ED-25F409A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6E31F-7582-47EB-8F5B-E27A549F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2E207-13AB-4D85-8331-B0CE5EE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9809-9FC7-4625-8900-648BAAB5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7B1DB-A606-410C-9E93-EB44BAF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C4BA3-11A7-4F39-AC62-A6798F6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37FF0-A526-4E04-B6CB-6A4E3BDE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57C3D-16E5-41C8-80A7-7C1D2171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26434-7AC5-4B4F-9343-15B2B4CE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5AC-9A06-4D3C-AEF5-68836C08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4A551-E178-4B5F-B5A7-7DF891DA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52506-9E6E-415F-8052-941FE4BB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413E5-92D7-425C-9E8E-BFB63C4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336EB-ABA6-4C5E-B181-C14C4B5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C8F58-05D3-45AB-A15F-8EBC84B5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99C72-2C3B-4D3C-9C47-85760FD7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B3C6F-C1A5-4B4D-8BDB-8D955ED0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8FB7B-B1E4-4B0C-917A-AC7A7FE6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C017B-ACEC-4440-A269-CE50A956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E31B8-20E6-4A6E-B67B-FD4370FD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BA32-D5BF-4A59-96D1-885DFC02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D32A9-DC3F-496F-8250-BF309E5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8F3FD-BADD-4749-8960-36C9345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B62EB-A1F9-4001-B35A-4083B4F9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CCC8C-5707-4840-9464-7378594B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427D7-8718-4181-90E7-16CE8AC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AD0E1-6383-4662-ACD1-A8EA369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FF353-C488-4FAE-842F-0F6AC5E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52AD1-6511-4E9B-B034-37EA745B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2DA0F-F611-4DBF-B035-F1003327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FE975-D7E1-4778-BF50-05D593B2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3529-473C-4D21-96D6-3F60D4B3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45BFA-77DD-47CF-8779-1DD7F71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28B51-6881-4291-9A0B-85265FD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4FC72-65F5-455F-A487-DE34512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C368B-46BF-4B4E-810F-9C01CA20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B7BC4-9C78-423B-A3E6-6DD1C34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4F401-BB53-4088-B676-1886549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8C837-6160-421F-B11D-1C0FD67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E631E-946C-4218-AC9C-00A6566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9FAB9-845B-4F1C-80F9-724AA209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2F879-7287-4610-8D96-B0033CCA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61BE-DB78-412D-AD99-FAF6F96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CBF21-3BEE-4B7C-9722-A806DCF0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BBA66-CED2-4975-B788-1D83874B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2ECBC-0809-441C-9E2F-ACFB1170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4D851-627C-4385-9394-936A8EA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90A71-5168-463D-85D0-B3AE04C3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4E534-8E9F-44FC-A93C-68BC04A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768E8-2AA0-41EB-A169-1EC848DD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21827-BD06-4D58-B32C-42539C4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B7E5B-647D-47DF-9FA7-4CC9581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DFFD9-B480-4D18-8143-FD84D881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BB40-9CCA-4083-84B3-480C166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C932B-434E-4819-BDB9-AC892BE1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B9D86-731D-4EDC-9F73-DF10C5AC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2EC89-B358-40C0-90A9-E581492A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50A2F-9621-42C0-9854-ED990720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17C67-2D16-47D7-81BF-82CF2ED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9AE1D-84FC-4803-9BA8-7242E2E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7BB0F-1ED4-443C-ABA1-5AC0B9E9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05182-17B0-4495-90C0-EFD80570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61DE0-4ED7-4ECB-93FB-76B88B4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DCC0E-4FBA-4147-AD84-81514D1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757-6B0B-47DD-B7CC-608951D3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5E2-3965-4842-A9BD-DCC6D30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9D673-C92F-4F3A-88AC-39D5F3D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C9F0C-365C-4BA6-8794-55A55FC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CA7B0-16FE-4DDF-A404-BF20199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88C31-92AD-418E-8489-9ACF65A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BBBE1-0D99-4A73-B69B-B79D085D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37E02-75C3-447E-84A6-14ABCDC4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72103-1D38-40F3-9815-9E51F64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DD1D2-DDF1-4B99-B477-EB3CF586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73F16-DD80-443B-A368-3708C3E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3E144-69E4-4322-AFB8-3111FC4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2307-4B69-4258-A899-6D30253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6132C-2F39-4786-B876-DB61C994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C7A97-8A6B-4403-B665-3A79C5B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3F571-A9B0-4FB7-8DA4-8E07E07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27222-03D8-4D66-940E-09C3D2A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FBFA3-88C7-4DB0-A81B-2FB0F7F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48206-74D2-46A0-AFCF-FE7756EC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969D9-5A05-47D6-BF0F-A7F7C0FC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3A86F-4053-49A3-84A4-1B79237C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ABECC0-FA6A-4AEB-998B-75C50BD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7BEF1-0A09-4E4E-877E-5065D774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5D6-1321-4244-9A83-3009F3F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9B957-5B2D-4231-8419-2CB8937B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F8863-ED93-4FF6-966B-18D1E00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A2963-0936-411F-92E0-202078B6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53523-6B1F-4E8F-8D1A-909BC5A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95D96-4B73-4FEB-B423-CF2CD2F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5E734-2040-4713-BADF-6B4A0D6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585AA-E8A7-4130-BCC8-B3928FAC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D95E6-42F3-4718-9238-3BF3F888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D6BB1-F49F-4872-B775-36B998D7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C42C0-0C65-4E9D-9DCE-F1E78BCE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6600-E678-4371-9189-A5E2E5EC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25A45-2987-47A9-B0C9-7F4AF2BF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B1772-1EC9-4EB5-9AC7-C20D4463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ED5BC-E228-4979-B2FB-4495D7A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F0C93-9B14-4076-9423-DE0ED504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858D1-7FD6-41C3-876F-88C0ADEF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82F5C-0893-4CC4-87DE-0A1EF45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9C598-6309-41ED-858C-94B424F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A0C67-1B38-4925-B8B9-52E6E655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156ED-94B5-4B0E-AF89-0A8A32C1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21339-4046-4006-8039-2C24C98A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EC50-6FEC-4CB1-8FDF-289F3C69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86CEB-85A3-4900-BFF9-19811334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A00DD-A86E-4655-BDEA-FE827DEB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3CB3B-8F81-49A5-8B5A-C5FD97FD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D2270-CEFC-4018-9F21-68F1B058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A085C-4C24-4C00-A2E6-E63A1F11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68188-601A-430B-A2C0-F1969B71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F069D-6912-4C91-B15F-423448A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E9FA1-3E99-44D0-AF2A-E71D4D92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2CD6AF-99E7-4FF5-80DF-3CE1811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1CEFC-5415-4DEB-B30E-1E772E7A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D89C-AB2D-41AB-B252-A82EA008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D18A1-CE41-4534-A0DE-78FE5B8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7CF81-7903-44F0-9C96-752A2AE3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0836E-4DF4-42B5-92ED-37D0B084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5B66-ECB2-4FF1-9481-192E7C4C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7E77-0744-488A-BB83-742B40A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C71B-2F49-42EB-B5E7-479DF48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56B5-5C22-4800-8194-2483C4A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989-A3CB-4604-A977-0E68F599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4091-3413-40D1-A4AB-6F38B0F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53EC-C7DE-4675-A7BE-9227855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1F13-E86D-4746-B761-588026E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C1C7-001F-4AE3-AE39-E1263135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7EDC-44E8-45B0-B9D4-A81D6B92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F25C2-4B68-4AE3-967E-438CD9A0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5841-E8A4-4D41-8AF2-90584B94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E642-2B94-491B-919F-1F05E30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E688-0D72-4A94-AA35-5A8A2EB9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1998-2F8A-4038-8878-24A86E4B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6B6-4151-4116-86F7-B6441B4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B9C8-3872-4A6A-91EE-FE7145C1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70CB-270E-4808-9519-8EED566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D9F6-30DD-4DB1-8A39-9354EC51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9E0F-B5B6-4437-BCF8-1C317AF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FF19-9182-40A7-ACAB-0289B69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87A6-7484-4782-9D48-06031F2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5A5B-0B3F-49E6-BF92-C54FBD37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19ED-DA4E-48A7-9A99-C3CEA6A1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D2B2-957D-4BA0-9767-3D4E045D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415C-EE50-4686-8E54-633D5566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F7D-8DC1-48B7-883B-F997EFFE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05FA-294C-4823-BC28-C4FE59B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B437-609D-4CCC-B21E-320FD891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8B50-0F4B-46F9-B885-C38AA91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DE7E-66CC-45C0-89CF-4EE88BC0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DE70-0734-48E0-9B58-EF72DF65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2299-FDE0-4AA8-A4C7-802CA50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CDCE-C6E3-4A84-9133-831DBC0D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FB001-C469-4532-8234-08446DFA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3808-BC0F-4B0E-A490-2D05AFCC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01F5C-03F3-41E0-9AA5-36CBC926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E00-A461-4E5B-A18D-E84EFEDF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F478-6DF7-4EA5-B583-5EFD4CA1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486D-5ADE-4E34-8275-D256918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2B6BA-216C-4881-ADCE-6984DFF6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A683-A439-42C4-B668-EF4CE916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A69A-7A68-40FB-8B75-A3D9883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A455-A888-42E5-AAA0-479D01E5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1360-F791-4536-BB4F-B72A488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D5A7-0A45-458F-8373-3E1A425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42247-E74C-4A1A-9508-4EAE0BA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FD8C-23EF-4826-A38B-4D1C3FE4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445-6B03-47C5-9182-5331430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3CE1-4E21-46F9-8120-D6C9D10F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8CEC4-7C2B-4EB2-8B38-310975B5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EDF6-FECB-4EEB-BB62-95513CE5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BF55D-375E-4A0B-874D-CE64D6A6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61B43-DF96-415A-B218-986836C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FE9C6-9793-45C9-B299-583674A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3645-563A-41B8-B3C9-125DF86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B2E5-8D62-4C7C-8B2C-8C765E3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97D6-FEAE-4E23-9764-1D1802D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2D32-749C-4714-9B01-8F9A7E9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7A3-C10D-4E45-AC95-6725D95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A4019-528E-4FB3-8118-53657E2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7F793-CC7E-451C-AAD5-6918A199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F57DE-287D-4978-AF5A-93474A00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37BF-129D-48DC-B4B4-7C7179F0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F419-D71F-427B-8A0D-6011BF98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C4C2F-846F-4173-A6C7-D838E0F7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E209-4943-492A-A833-18553B47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63FF-9B4F-436C-85E3-3A55B3F0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90CC-0CE2-4FF5-9DF1-7E44E571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8C31-B69E-4FC5-A85E-ECBCBB9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994-C41F-4401-A3D3-1487419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FA98-60EC-469F-AEB8-B70EEF7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1D1CF-07DE-4B57-8A08-FCFAE35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84EFF-D852-467F-823C-750104D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B2A4-3399-49C6-B840-B9E7346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D4DF-7D78-41AA-8EF6-BE0DBC98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58D9-533A-45BA-9DBD-DA5D0ED3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A8E7-1172-48A9-8AF6-B5A66423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53679-ECAE-4779-BB59-D2C2DC4F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B0EE6-C96F-4C06-901E-F2C7998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B7B2A-A18C-4322-AC3D-CD8018A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11B-F4EC-4991-87C1-A8D82A8DC1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B19-EA39-4CC7-A023-73F0EB23A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EE00-D704-4A31-8B1A-7FF0D2EE25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9B54-5174-4958-9E8D-9DB117C5E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255E-B8A2-4430-B95F-E8A595DB7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D9D-B5FD-4B08-8231-4EC2240B3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8CC-ACAF-4373-B7E0-66EF601B6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7FB-4D9F-43A1-8B3F-4A721F5424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FC60-DCFE-4A4B-B2DD-7E7F8A121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06DE-68DB-405B-9516-1824073F2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141-2739-419F-B96C-C6392CE66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499B-973F-4245-8E83-4A13AD190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019E-7984-4D2E-9ED4-9BFC1AE9A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9444-177A-4765-AAA9-0C67E5C41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AB0-7FF4-4FAB-8EC1-225B4F0B9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3691-763B-496A-8F9F-591C3440F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C0C2-2C24-4BAE-A20D-90029C02F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E936-31ED-4431-B857-50EA17E34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1E7-6650-4CD7-A7DD-7916A5ABB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259-B4BC-4B83-BABD-CD450D097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775-F7CE-4194-9A9F-B7EBB241E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452-9892-48EC-822B-0FC637863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BCB-9439-48AF-8864-9DB27084B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374D-820C-415A-BFC6-8D7F1CED7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700F-701E-4E8F-87AD-B4696440F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8E1-BA80-45E0-9E4E-0B6C6B679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AAE-5C01-429C-995D-782F7B136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F68-7DD1-4C2D-9E0B-A9F3D74905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669-47A1-445D-B7CD-302DAED6E0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09B5-578D-49BD-9350-2FC3A89473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464-AC72-4ED6-8143-D801D25F6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C468-2851-44AE-A52D-E2873EC70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75C5-0DD3-4369-AB89-0E91DFD9D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720-0154-4181-ADA6-C21E50011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D14E-B2DE-4318-BA96-349AB6B78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B74-FB28-46C7-965F-F7FE5F31E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6CE8-BCE7-4595-91B6-A3AC59C29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588-D4B1-41DF-B0E7-E8291E6F6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A73C-41D8-4B42-B9AE-E0305B32E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1BE-7377-4811-86B8-1BEEBA0DC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61840" y="2752560"/>
            <a:ext cx="74203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281160" y="181080"/>
            <a:ext cx="8581680" cy="6495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252108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22740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11280" y="6149880"/>
            <a:ext cx="813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581600" cy="2276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8610" descr=""/>
          <p:cNvPicPr/>
          <p:nvPr/>
        </p:nvPicPr>
        <p:blipFill>
          <a:blip r:embed="rId2"/>
          <a:stretch/>
        </p:blipFill>
        <p:spPr>
          <a:xfrm>
            <a:off x="538200" y="3351240"/>
            <a:ext cx="8067600" cy="2238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95672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226040" y="227664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639200" y="21477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008080" y="363060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802040" y="3645000"/>
            <a:ext cx="1008360" cy="718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8186760" y="36306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2036880" y="4437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5205240" y="44942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8172360" y="44942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976320"/>
            <a:ext cx="85629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38200" y="1276200"/>
            <a:ext cx="8067600" cy="430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924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268360" y="2736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12400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85128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19564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64328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595440" y="1157400"/>
            <a:ext cx="7953120" cy="4543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862680" y="180180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916360" y="2290680"/>
            <a:ext cx="576000" cy="374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804000" y="2278080"/>
            <a:ext cx="1081080" cy="401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867280" y="2665440"/>
            <a:ext cx="1729080" cy="436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5435640" y="4595760"/>
            <a:ext cx="936720" cy="374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3822840" y="4984920"/>
            <a:ext cx="93636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9880" y="797040"/>
            <a:ext cx="8544240" cy="580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72632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66764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667640" y="59929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09480" y="2747880"/>
            <a:ext cx="7925040" cy="1362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85960"/>
            <a:ext cx="8572320" cy="50860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1" descr=""/>
          <p:cNvPicPr/>
          <p:nvPr/>
        </p:nvPicPr>
        <p:blipFill>
          <a:blip r:embed="rId2"/>
          <a:stretch/>
        </p:blipFill>
        <p:spPr>
          <a:xfrm>
            <a:off x="1033560" y="2552760"/>
            <a:ext cx="7048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633240" y="838080"/>
            <a:ext cx="7877520" cy="51818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77" descr=""/>
          <p:cNvPicPr/>
          <p:nvPr/>
        </p:nvPicPr>
        <p:blipFill>
          <a:blip r:embed="rId2"/>
          <a:stretch/>
        </p:blipFill>
        <p:spPr>
          <a:xfrm>
            <a:off x="2300400" y="2328840"/>
            <a:ext cx="5371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00040" y="1633680"/>
            <a:ext cx="8143920" cy="3590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458040" y="4581360"/>
            <a:ext cx="115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9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